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0F1-6F6A-4646-8236-8F99CFC9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479-72BD-4942-9E25-9AFF0DBF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7A2-01AC-4147-B367-BEF2BB2A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398-68D0-4E13-933D-1206D6C6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306-B1C6-4FCF-8215-5A525C1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EB7-6604-476E-9741-1BAF99DF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964-9201-495A-9F8F-7833B528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11D-80B0-4618-9251-553A368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A0C-070F-40BC-864B-A8C91DB0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B1C-3B72-44A0-8419-DFBCE458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76B-DF27-4FC2-BCE8-8B5F6FE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94F-29A4-488C-BC25-8B6F07D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EB76-307E-48FF-8D3D-C6AC06D8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5080" y="304920"/>
            <a:ext cx="8908920" cy="149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960" y="2246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2934000" cy="39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8015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7912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229600" cy="114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22860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22096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2860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169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182880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8288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77320" y="18288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666880"/>
            <a:ext cx="19051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5:58Z</dcterms:created>
  <dc:creator>Graham</dc:creator>
  <dc:description/>
  <dc:language>en-US</dc:language>
  <cp:lastModifiedBy>Graham</cp:lastModifiedBy>
  <dcterms:modified xsi:type="dcterms:W3CDTF">2011-10-22T23:31:04Z</dcterms:modified>
  <cp:revision>2</cp:revision>
  <dc:subject/>
  <dc:title>Slide 1</dc:title>
</cp:coreProperties>
</file>